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D9A-0FEA-4BD6-8FFB-84A7D56E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5D6-2AD1-4E2B-B492-34A1A2A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803-B159-422D-A646-BC5CAF0C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43C-79C2-41B2-8517-45CD275D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654-F68A-41CE-B423-0A4744FD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6D3-B753-4CD5-8804-956DEC2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D23-433A-447A-A7C3-46279512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B79-59FC-4439-8F83-E097C33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0BB-B1F9-419C-BA68-FBFB4675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545-B9B6-4803-AC6E-A9E6B8A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732-4578-4A78-8F05-DFF44BC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C9F-13BD-4D9D-806F-2F6E8C3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40BB-EC60-42DA-B00A-674346FB40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98100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a set of events have an equal chance of occurring, it is possible to calculate prob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or example, you can calculate the probability of rolling a 4 on a die because the 4 has the same chance of occurring as the other number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5280" y="306864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an event happen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00720" y="2421000"/>
            <a:ext cx="360036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number of results you wa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number of possible resul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427640" y="3573360"/>
            <a:ext cx="295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3068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rolling a 4 on a normal di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211640" y="2852640"/>
            <a:ext cx="46432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 side with the number 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 possible sid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859280" y="3573360"/>
            <a:ext cx="2951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can calculate probabilities, you can use this simple method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95280" y="306864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rolling a 4 on a normal di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11640" y="2852640"/>
            <a:ext cx="46432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84720" y="3573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2436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981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ich of these statements are true about the word MATHEMATICAL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2205000"/>
            <a:ext cx="7921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picking a vowel is 50 % because a letter picked is either a vowel or it isn’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probability of picking a vowel is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cause there are 5 vowels out of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 letters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Line 5"/>
          <p:cNvSpPr/>
          <p:nvPr/>
        </p:nvSpPr>
        <p:spPr>
          <a:xfrm>
            <a:off x="6804000" y="49417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979640" y="3429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11280" y="595008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Oval 8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Line 9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4284720" y="3068640"/>
            <a:ext cx="468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How class 6b get to schoo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cide which of these statements are tru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468360" y="1125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s spinner represents all of class 6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1692360" y="4508640"/>
            <a:ext cx="936720" cy="57600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284720" y="126828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995640" y="1125360"/>
            <a:ext cx="51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landing on a person who said bike or car is the same as landing on a person who walk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763640" y="4581360"/>
            <a:ext cx="936720" cy="57636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284720" y="335772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“bike” is the same as getting “car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308720" y="256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804000" y="4508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89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lculating Probabili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Oval 3"/>
          <p:cNvSpPr/>
          <p:nvPr/>
        </p:nvSpPr>
        <p:spPr>
          <a:xfrm>
            <a:off x="539640" y="3213000"/>
            <a:ext cx="3384720" cy="32403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195640" y="3213000"/>
            <a:ext cx="0" cy="324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2195640" y="3645000"/>
            <a:ext cx="1224000" cy="1224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2195640" y="486900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1042920" y="4869000"/>
            <a:ext cx="115272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448000" y="519912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63640" y="411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368360" y="5775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735280" y="42642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k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160720" y="3471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284720" y="126828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995640" y="1125360"/>
            <a:ext cx="51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“car” is 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1763640" y="4581360"/>
            <a:ext cx="936720" cy="57636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284720" y="335772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chance of getting car is 25 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7308720" y="2565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804000" y="450864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995640" y="2133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3:37:19Z</dcterms:created>
  <dc:creator>Manager</dc:creator>
  <dc:description/>
  <dc:language>en-US</dc:language>
  <cp:lastModifiedBy>HELEN</cp:lastModifiedBy>
  <dcterms:modified xsi:type="dcterms:W3CDTF">2016-10-28T21:58:02Z</dcterms:modified>
  <cp:revision>9</cp:revision>
  <dc:subject/>
  <dc:title>Slide 1</dc:title>
</cp:coreProperties>
</file>